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9AA-5071-4FCE-B40E-12AD993A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85D-B7B0-4704-906B-084885C4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4D253-F680-4C00-B856-D9255FF8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8927B-D90E-4E18-B58B-28853FD9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CC93E-B17C-4C0F-AF52-F9A7C4F5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8FE1F-6041-4CD9-983B-DA12A11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E1F8E-D151-4BC0-B927-5BB4541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C3C33-42B9-4495-8BB7-AD51680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0470B-046A-460C-81DA-8BCD3CF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00547-1D74-4A91-8ACC-28D15B87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D0B56-C0DE-416C-8E43-B61C4D2A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31B76-C1A1-43A4-A228-0CCEE6AA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0E6-538B-4ADB-A14D-86A95ABE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DDA22-A54A-413D-AD79-EE015D1F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3470E-496A-4186-9EE0-A2FBC35D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EC72A-3A99-4C90-8804-6A2A947E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DE1D8-E086-4169-B0B0-5124E731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64A78-6920-4557-9634-13135A60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08807-B49D-4A28-B971-0F9B464C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9CC69-4B7E-47F1-A013-BE13910B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63F73-139F-4731-8ED0-D03F20E9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55250-C6EF-43DF-BC8E-EA0EC148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05AF8-16FD-467B-B296-566FE5B6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A3E-5C1A-43ED-A806-06531470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AB162-F800-47D0-A59D-74E65771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430DA-CEAD-4C5B-AFE0-FC69927B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E8CC7-5340-41A5-9F1B-478A881D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8D102-392B-4DBF-9EF8-B8D8BB4D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93A6B-AAD7-4A8F-A721-A9B1B082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2C7CD-7D85-464E-9833-EFDA52F5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E0445-AC17-4E0E-B703-E4CBDC5D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4699E-E0DF-4EB9-BEE7-8F8DC797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8C91C-FC0F-4252-B746-6D3367C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7CE83-747C-473B-AC2B-D8128CA8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5B0A-DE22-4BAF-B55E-BE0682E8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9E0E3-918C-44CC-9055-4833A11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77287-A927-4C35-A93E-4D2187DD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FF85F-8728-42A4-BBF4-87BF32D4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DA398-536C-402E-99AD-96938E8A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D1892-6990-485E-AC18-2035A83D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46844-2D33-4AE6-A556-15C2BF98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0D0E9-96F5-4885-8073-52E9B534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E5C74-7370-43E3-991D-0210776E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0945D-DA8F-4A69-ABB8-C89E56CE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DB8D6-A0E7-48F5-AC83-AD650CAA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724E-3D99-4691-B864-96468EA7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FFA10-61F1-4567-A202-B294DFE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C5AFC-14B0-44B6-AEAF-609DC16F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10589-3C67-4C39-967C-A6596055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52208-3560-4706-AC31-0BAEEE13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0E041-B26A-41BA-84D2-BC8F2D98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1906C-FD2D-4D42-9B66-45D0EAEA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B3CB6-7A1B-426D-ADF6-8771E682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F82B7-7E89-4783-A3E1-C7006011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7B077-F039-4A0A-A66B-8DF939B9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10FB6-947D-4BFA-9E0C-5A622F71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3C81-FB45-4B73-8720-CC673EE7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499257-047F-4558-B215-FEADD4B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58CA7-462C-40D7-B745-4B1F4DD2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191E5-EFE5-4CB3-85C6-500BC23E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2DB74-5160-45B3-8E0B-9D9B5DF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7BCE7-D5FC-4FCF-9477-C00A6778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735CC-16AD-4A20-90F0-95C99C71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E8443-3EDE-4CBA-843A-200EE431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B0A55-E6EE-4A00-A2E0-570684AB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CA795-95C3-4FAA-AE26-9B56743F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FC20E-166F-4EB2-A0DC-8B4AD4B3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6732-24CE-4B1C-B81B-FA65CA74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44039-33E9-4ACF-8972-FB87B9DD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47054-668C-4736-A8CE-137AA428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98ADE-AE9F-4FF9-B239-30CA9986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93755-E2C5-4CE7-B6E4-B02D159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B30EC-62B8-484C-9086-2B3B52F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52FA6-FDDC-4A41-941D-80ED16A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7F4C6-553B-4A37-8CB7-AF952361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23305-C451-41FA-ABF9-F2698028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F2E56-8CF0-4059-A8BD-B2BCD8EF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3BA9F-2855-45DA-8A46-884A0415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65FE-6B99-4288-A471-EF5606D8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B912FF-C3C6-4082-879B-324DCC8B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06D0E-59C3-49C9-B82E-D3A3CA1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CF4A9-D9E0-4657-B538-67615DFF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8FB82-6F77-4A73-B191-E2310C32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D909B-4322-47D9-B327-3191F0E6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72B877-23E9-4029-9C5B-0F9C3A2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8078A-19D0-4F9F-B006-E023E30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AD871-A82A-4688-B162-212BC0E7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40D22-EDDF-40A8-A6BC-54ECA8E8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4D6F5-8CBB-4BCC-95A0-C31D4CA7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37C5-E43E-4677-8830-7B951093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C9190-C3F1-4D70-A4CF-57EFB418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8CC90-965A-4217-9F6B-B78E6F98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B32EC-B21C-479D-9F13-535DBF42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C68915-4671-42A2-8FFA-44CD8607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816BF-D081-4271-B344-B3ACFC33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7FE41-CFBD-435E-AACB-17B0A47E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15EE3E-8D08-4377-87BE-6E0667A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D2EB6-3EF7-40CD-AA16-F5082C98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9E118-6BF9-415F-B34F-7EC8F11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8E6A7-C197-4236-8697-CCFC60A6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5E1A-C705-4C22-B0E7-79C3BC89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334E4-0D20-4DFF-91E6-74584696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1FA84-00AA-4FC9-9A98-185EC66E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3C551-6751-4F55-A783-2BBEB49C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728DC-D642-4445-B520-672799E9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42CB7-F8EB-47D8-819D-1BF46074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C2F9D-92EC-459B-917C-53842F72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5EACCF-D60F-4721-BE9D-DB48E657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D3826-A4B4-4888-AD83-61745839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520A6-67B5-4D76-8834-96BEBB0F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0B75F-3997-4C5F-B126-515B0984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A00-3D3F-4574-A7FF-523E7958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0D2D-6CEE-4AAE-8007-EE3712E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2DA63-C300-46E0-9EF6-E8E3D2D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A89E5-A34E-41E2-A371-744A8678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946DA-CC76-4C34-9811-58C61351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AF3D8-1F57-4B57-9B16-77B3692C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C99BD-D39C-40E2-B487-1558715F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0DE9F-4A65-4AC9-9061-EF24DBA5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30762-1CAB-4259-A1D3-93BA9867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BCCEF1-88EF-48AB-9F7D-2594A5E5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20B15-5552-456A-A470-1F1CED1C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616BA-44FB-462F-B6C6-5B79F7F8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3C10-B352-435F-84D5-B5FF6C5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B6CDE-9B78-4ADF-B4A4-AAD68190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03D23-B6E1-4293-97EE-24FCA0FD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F2C86-CA00-48D2-A08F-C545DCE3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597A3-8761-4CC9-83C7-5FDB0F18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29DFE4-96BE-4FC0-B5DF-8ABBA9D5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2B6C6-1D5E-4950-9CF9-30B1D0B5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D0E64-FF43-430F-A033-D5B4EF9F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20F01-B203-4D02-AB9B-F6607EE8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B40F4-CC1B-43B4-9867-401BC138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34FB4F-9AEC-42AF-BE05-3AAB65B6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9CC6-771D-4174-BD09-ACD66F20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88860-B26F-42AF-8047-02FBA437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E7A07-47E3-4BFB-9ADC-F3CBB018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89AA5-14BF-46E2-A919-19A3E1EF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BBC97-3DD7-424D-AEB8-861FAD4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F41357-3D38-4D67-8AFA-8854C062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3E1BA-3C72-4A52-ABD8-BF125A4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DD41E-BAFF-431F-BB4A-2889E43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EC785-C81E-4186-9465-E74CC202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11A2D-4AB6-4760-B113-35EEAF7D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4FECD8-A687-4180-9CC1-C0E261DB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BE72-874A-471C-96D6-DD843A58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680F89-136B-4151-8C6A-FB0680E9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236FD-0A9D-48E5-A3E9-FCDCE979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3C9E2-03BD-4FFB-A573-6EE4E89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99896-11E9-4A26-B422-0230A1E4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7025D-A36B-496C-A9E7-BC798FA5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E56A8-3260-4BD7-B535-AF0891E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ABE925-6FD0-4816-823E-F9E75385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4A9D7-6EF0-4976-BCA4-D072E87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6188F-9AE6-4103-8F38-9D828CA1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43A38-651A-45EC-B003-A7FCCEF6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4DD8-257C-4EF5-85D4-8B445953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04353-82CC-4B27-BFF8-8159A23E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363C18-5024-4585-85CE-74E24426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D6404F-4C7E-4502-A59D-2EFF736B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A5FE9-B474-4CD7-809D-DBA20F0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A89FE5-9D2B-40EF-BA3D-656D23DA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4433BE-0C0F-4272-834C-49670892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A9C5DA-1C1B-4DBC-93D7-27BBF3DC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66B35-F18F-40CB-B658-76D7CF43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77C14-85E6-48E7-8E92-6771FD4C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EFF21-0C70-4B37-B361-BA13E021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2DE2-CF58-4EBA-AC83-BDE937EF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15BD6-CC2D-4B12-8D71-F7DD03C3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9FEC7B-E3AC-48AC-99EC-457E07BB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34275-4FDA-4BC1-991B-13E1DFCD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25208-5F41-48D6-8902-EFBF9AB5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6B94-A683-4869-AADB-47FF7C67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4C22-FF9B-4CE9-9C90-36E7A094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3613-3489-4D00-B696-123FBC59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CCF-8D26-4C49-AA17-0D4DA806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1C312-1869-45BB-89AC-40CEDE45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EAFD-D0F4-4B27-A611-5B9FC72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B7E0-ECB3-4AB8-BABF-4750986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E97B-D0C7-4234-B410-9E1D814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7D3F-D45D-46DF-98BA-C89256BF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7739-2252-430B-9EFF-A3989816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8C28-37ED-4CD7-A158-D390F811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F02B-F1D3-4955-93C1-30969D5D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4E071-7049-4306-93C3-7E90B4D9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D4EF3-8105-4C17-8136-0868EAA0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D1B-C565-427A-BB32-DF18FF00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960A-EBD5-41FB-B589-EA858F70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9610-6C9A-4B69-BD8C-24234948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A2EE-220A-4D77-9D1A-EB731072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EB1E-156E-417E-8A0D-A9385052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1EDD-4C90-49B8-8840-F7D33A5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43C9E-5707-4804-AF37-474EC224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080E3-A9E3-4DCB-B26E-C5C222C4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51737-0A5A-433C-8F9A-31F843DD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4A49-8210-43A1-8A95-2A10ED0F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A4FAB-BCD3-42F1-AF2D-EEFB9B75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544-DC29-4CC9-A610-CED3A96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EAFA5-9310-4B49-AA24-7BCED509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B8CE-5156-4CC0-88FF-82E0F0C8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41C95-BFA1-4A25-9499-997B79BA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EB966-01B0-4658-A9DC-3014BD96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D565-77EF-44AD-B086-5ACEA33A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9BACD-D1AF-4AEF-BF6C-C051FAA4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DD4F-0A50-4A46-8DE9-EA8C8A58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117D7-A187-4364-9A43-D4AD9E4B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67EDA-3327-471D-A7AD-6FCD93D6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0B44-F001-4B0A-95E1-E52828B4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F25-BC82-40AA-9F1B-86444F8A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733D2-FAD4-4305-AFEE-A67FB2CB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F1CB0-5773-4567-AB35-1E3FCB95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37186-B836-4D8D-AD7C-C3C71D2A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9C0FE-3322-4BDA-B917-7AF4D114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F632D-7593-4CC3-9579-26DD909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6B16B-3EFD-4728-B39E-9BF90B3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84752-8D63-4219-806C-B1D85903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03206-BA81-4B00-884D-C13EE910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1FF11-2103-458D-91C0-B40E06A6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2E6D6-C2A7-4FA1-9B5B-C4D3990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67E-B2B5-486A-9840-3A81ED38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C530-43A0-482D-B301-8BC9A159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8D04-829B-4DB8-9318-A26E04D8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9E2DF-7522-43C4-9A54-753860C8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E78C6-09F4-4AB4-88F9-E8F9D80F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1EE3-0CA6-4AEB-B634-56571C5A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BC97-6188-4D2C-9700-0E7258B8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2FB83-5F49-4D40-B374-26B8AA3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681C9-F892-481D-9772-EF510FAD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7DEE1-003B-4C71-9CBF-9149855F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12C9-0EAB-4136-BE73-BB494AA2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941-AAB9-4EF4-8176-BE0E600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477C0-E06E-4957-9575-13F0ADA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4F584-AA03-4507-AC73-A93B1B7C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7E7C-A99B-4AB3-8E85-FE835D51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EA9C2-03EC-423D-B294-0F948E9F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DE7D1-307B-4C21-A6DB-399E94CC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A5C26-72FD-4274-BA3A-6839DD2C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B71BF-133D-40BF-AB0B-FC4FAE35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20219-6B63-4188-85A8-CDB9D092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7435C-EB54-449E-9592-EC16C168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1DC8B-DF54-4A60-9A0B-0AADD7B1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E4A-5435-4A96-AF5B-EDF2515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E437B-DCB1-415B-841B-5C6D9D20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1C53B-2E11-43FA-A856-FCB6139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F7199-EF76-428A-990C-89540BC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706F0-A516-4454-8FA9-4FA238E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D7041-1768-47F4-BD99-E3A2D321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1466-D93C-4B07-BB7C-28F8916F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5C5E7-ADEE-4FC8-89AA-48347916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E1F50-0319-4D11-8311-82211E42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48913-E85C-47D2-AC31-8B4CC11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F95BB-EFDD-4DDA-B1F2-F4D46F62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64F-D8F4-42D2-ADEF-0D5AE611BC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9552-EA5A-4095-A5A8-C38957B20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8E32-CC5A-40F9-8DAA-5363259CA6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61F6-D8DD-4152-A222-D253BF70F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1982-4744-46E0-A13E-9171177588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7AD6-1884-494E-8DE2-CB9269D15B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03D6-9F00-4D24-804C-32435F94F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786B-D4B8-4764-B131-5E1C708B64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4EE3-D4ED-400C-94FC-C14796F459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7AC4-2ACC-40A5-90B0-7A92D6327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83F0-F7F6-4720-ACB8-E986F8F812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C43F-AAC8-4114-86B6-19ACECBBE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909-4A84-43F8-8DD9-F5B6E843BF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F9B7-F4B5-4D6B-9BBD-DAE982CAC5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C9C6-AD34-4576-915F-186E1D9DA6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8072-59EB-4B07-BF60-FBCEF931E1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2102-A814-47E3-A0B2-EC74CD937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8A52-0C99-4CE1-82C5-DA93FAB460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06BA-9844-4A89-B8AE-8712C679F1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0D60-D50C-4FED-9007-80F5B38F0B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DB7D-9CC0-4C07-A913-6195410E0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C429-B27A-4E3D-8B0F-8943BB185A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83FF-834E-4A60-8D40-43667EFA7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A762-1795-44EC-99E0-CBB59EE86F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EA46-B62D-4FA5-AB1B-FF4DA2AFF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C535-E4FD-468C-993F-4BE9C238E4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DD4B-3463-46AA-A214-F7256F63E0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810C-84E8-4EFA-8B4D-0078A114AA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8691-BDBF-4693-B3CF-3D612C72C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E5B7-4F9E-4E8B-A121-A7E31E7728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0C5E-FC86-4F55-A025-FF0EF570B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FA21-8437-4728-93A2-DC9D0E99A9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CC34-DA66-41DD-846A-8991723B49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A658-3E83-42FC-9583-3ECB0D0F34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2463-0EF4-4250-9CB6-9C88A07967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1D2C-C8BF-4714-8E94-9A725E5759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CFFF-A88A-4BF6-8BB6-626A8FBE1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3901-F19B-4A99-8385-B339058227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69A4-4F79-4643-B6A8-3CB4DD0C66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5E0F-7E43-4B04-9492-A5445C901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90680" y="2728800"/>
            <a:ext cx="6362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2920" y="1380960"/>
            <a:ext cx="8858160" cy="4096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332000" y="361152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995640" y="3616200"/>
            <a:ext cx="79236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516720" y="3606840"/>
            <a:ext cx="79200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782720" y="52293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149720" y="5210280"/>
            <a:ext cx="792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138240" y="1852560"/>
            <a:ext cx="8867520" cy="315288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59411" descr=""/>
          <p:cNvPicPr/>
          <p:nvPr/>
        </p:nvPicPr>
        <p:blipFill>
          <a:blip r:embed="rId2"/>
          <a:stretch/>
        </p:blipFill>
        <p:spPr>
          <a:xfrm>
            <a:off x="1319040" y="2490840"/>
            <a:ext cx="67914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119160" y="1424160"/>
            <a:ext cx="8905680" cy="40096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900000" y="3952800"/>
            <a:ext cx="93528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3419640" y="3943440"/>
            <a:ext cx="9349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5867280" y="3962520"/>
            <a:ext cx="9352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395280" y="4979880"/>
            <a:ext cx="453708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8459640" y="220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8459640" y="2565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8459640" y="2924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9"/>
          <a:stretch/>
        </p:blipFill>
        <p:spPr>
          <a:xfrm>
            <a:off x="8459640" y="3303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0"/>
          <a:stretch/>
        </p:blipFill>
        <p:spPr>
          <a:xfrm>
            <a:off x="8594640" y="3654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1"/>
          <a:stretch/>
        </p:blipFill>
        <p:spPr>
          <a:xfrm>
            <a:off x="8585280" y="40147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2"/>
          <a:stretch/>
        </p:blipFill>
        <p:spPr>
          <a:xfrm>
            <a:off x="8585280" y="4384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3"/>
          <a:stretch/>
        </p:blipFill>
        <p:spPr>
          <a:xfrm>
            <a:off x="8594640" y="4743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4"/>
          <a:stretch/>
        </p:blipFill>
        <p:spPr>
          <a:xfrm>
            <a:off x="8585280" y="510372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5:0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